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EDBD-D66B-41F2-BED7-CC43C28674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3912-93E7-4E96-BAEE-ECC6EFC090D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946D-F457-4F75-BB29-0EB663E5B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D015-E049-4CF8-BEA5-9D49DA85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6082-A069-45C7-9AD2-E1B92BDA3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14F6-01E8-4F34-8973-5C2588D89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474C-BCE3-4E3B-9812-4D8225A03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E03D-10AC-4778-858B-9E6B3B57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CFF7-593B-438B-9576-9A7E05E9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019F-6BC0-437A-BED4-80B47B82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AA05-1648-4F9A-88A0-5CF14209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7B6B-7893-42F0-9E99-7A82AF10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691E-F59D-40CA-A72A-7481F4E2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0FC6-3AC8-4BDE-AA03-752C1E52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CD19-867F-412F-8D6D-D4F3C4D0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33224-FE33-4F74-8DEF-B7EFC230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8954A-0D86-432B-A9C2-962BF6C5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C44B-90A7-4270-A9EA-F90F81E41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BC95-74C2-49EE-964A-72AF5C390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38AF-C426-454B-8F55-107E4210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7290-14A8-4C77-A43A-E206F872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3B1C-2A1A-4C99-8123-57569EDD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11D3-0DF1-406A-A3B5-353964FF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BEC8-0D83-4FB4-8F86-3DA36A46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F92F-C5A5-42BE-8B6C-56213D79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6D74-2683-4AFB-8980-D0086D4A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573f8b">
                    <a:alpha val="0"/>
                  </a:srgbClr>
                </a:gs>
                <a:gs pos="100000">
                  <a:srgbClr val="4734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6b5699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6b5699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573f8b">
                    <a:alpha val="0"/>
                  </a:srgbClr>
                </a:gs>
                <a:gs pos="100000">
                  <a:srgbClr val="4734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6b5699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593E-9256-41CB-9F2F-BCB46A3F40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573f8b">
                    <a:alpha val="0"/>
                  </a:srgbClr>
                </a:gs>
                <a:gs pos="100000">
                  <a:srgbClr val="4734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573f8b">
                    <a:alpha val="0"/>
                  </a:srgbClr>
                </a:gs>
                <a:gs pos="100000">
                  <a:srgbClr val="4734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6b5699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6b5699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1741-B2A9-49D1-87C1-5A2AD6F6D85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00240" y="214200"/>
            <a:ext cx="2934000" cy="5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9d9ff"/>
                </a:solidFill>
                <a:latin typeface="Comic Sans MS"/>
              </a:rPr>
              <a:t>Sawl myfyriwr?</a:t>
            </a:r>
            <a:endParaRPr b="1" lang="en-US" sz="28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539640" y="1104120"/>
            <a:ext cx="820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ae ysgol newydd yn agor gyda llai na 500 disgyb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Os y byddwch yn cyfrifo un traean o’r rhif hyn, mae’r ateb yn rif cyf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ae un chwarter, un pumed ac un seithfed hefyd yn rifau cyf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awl myfyriwr sydd yn yr ysgo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7572240" y="3786120"/>
            <a:ext cx="1133640" cy="2600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"/>
          <p:cNvPicPr/>
          <p:nvPr/>
        </p:nvPicPr>
        <p:blipFill>
          <a:blip r:embed="rId2"/>
          <a:stretch/>
        </p:blipFill>
        <p:spPr>
          <a:xfrm>
            <a:off x="785880" y="4786200"/>
            <a:ext cx="183816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18:02:17Z</dcterms:created>
  <dc:creator>Carwyn</dc:creator>
  <dc:description/>
  <dc:language>en-US</dc:language>
  <cp:lastModifiedBy>Carwyn</cp:lastModifiedBy>
  <dcterms:modified xsi:type="dcterms:W3CDTF">2009-11-29T13:47:27Z</dcterms:modified>
  <cp:revision>4</cp:revision>
  <dc:subject/>
  <dc:title>Sawl marblen?</dc:title>
</cp:coreProperties>
</file>